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315-0EEC-4302-B01D-174A1DEB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923-8BD9-4377-9A6D-D1CD713D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FB8-2FD7-4B75-AE15-DEE13C3A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8C2-D1E2-4CE0-9853-83AEA843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622-82C8-4443-A45A-AFD1838B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247-8F06-4865-BBEB-EC238519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F5A-3FEE-4A2A-B2A8-73EE729B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864-1DCD-463E-AA24-D6AB5AEA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794-B395-48AF-8543-80BFBE97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BCA-B674-4BF0-8879-7B2EBB7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AA3-BA0F-4FC6-A24E-8D3389F7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352-8FB9-45EE-A5D4-52D6A201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6D1A-7D14-4A07-869C-D211795F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D1CA-C4D0-4AD0-A8C8-C6F95160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32F4-1022-4A2D-AFE5-E873DE47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43F8-0F1B-4721-A542-2777816C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2BA3-6A1A-4D1B-B25E-EF425F2C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277D-E711-45BF-BA4E-94584F4F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F6B3-CC6A-49BC-BC4B-16277E7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7755-51F1-4D6E-8B4F-C8C4B1CF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907C-999C-4CF4-92BD-343ECE0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910C-0B7E-42B2-95F0-66060E3A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E07B-7343-4C2D-9467-03D6A711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9926-0EA1-4E2D-A460-A4CB49E3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109440"/>
          </a:xfrm>
          <a:prstGeom prst="rect">
            <a:avLst/>
          </a:prstGeom>
          <a:solidFill>
            <a:srgbClr val="7ac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ffc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等腰三角形 7"/>
          <p:cNvSpPr/>
          <p:nvPr/>
        </p:nvSpPr>
        <p:spPr>
          <a:xfrm rot="10800000">
            <a:off x="4075200" y="0"/>
            <a:ext cx="1008000" cy="303120"/>
          </a:xfrm>
          <a:prstGeom prst="triangle">
            <a:avLst>
              <a:gd name="adj" fmla="val 50000"/>
            </a:avLst>
          </a:prstGeom>
          <a:solidFill>
            <a:srgbClr val="e1e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C:\Users\Administrator\Desktop\优翼.png优翼"/>
          <p:cNvPicPr/>
          <p:nvPr/>
        </p:nvPicPr>
        <p:blipFill>
          <a:blip r:embed="rId2"/>
          <a:stretch/>
        </p:blipFill>
        <p:spPr>
          <a:xfrm>
            <a:off x="4356000" y="1440"/>
            <a:ext cx="487440" cy="17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0" y="0"/>
            <a:ext cx="9144000" cy="109440"/>
          </a:xfrm>
          <a:prstGeom prst="rect">
            <a:avLst/>
          </a:prstGeom>
          <a:solidFill>
            <a:srgbClr val="7ac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ffc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等腰三角形 7"/>
          <p:cNvSpPr/>
          <p:nvPr/>
        </p:nvSpPr>
        <p:spPr>
          <a:xfrm rot="10800000">
            <a:off x="4075200" y="0"/>
            <a:ext cx="1008000" cy="303120"/>
          </a:xfrm>
          <a:prstGeom prst="triangle">
            <a:avLst>
              <a:gd name="adj" fmla="val 50000"/>
            </a:avLst>
          </a:prstGeom>
          <a:solidFill>
            <a:srgbClr val="e1e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Administrator\Desktop\优翼.png优翼"/>
          <p:cNvPicPr/>
          <p:nvPr/>
        </p:nvPicPr>
        <p:blipFill>
          <a:blip r:embed="rId2"/>
          <a:stretch/>
        </p:blipFill>
        <p:spPr>
          <a:xfrm>
            <a:off x="4356000" y="1440"/>
            <a:ext cx="48744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838080" y="5721480"/>
            <a:ext cx="27432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4038480" y="5721480"/>
            <a:ext cx="41148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8610480" y="5721480"/>
            <a:ext cx="27432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4F48-75BC-43A5-BA8C-FC85633D2EF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dt" idx="4"/>
          </p:nvPr>
        </p:nvSpPr>
        <p:spPr>
          <a:xfrm>
            <a:off x="838080" y="5721480"/>
            <a:ext cx="27432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5"/>
          </p:nvPr>
        </p:nvSpPr>
        <p:spPr>
          <a:xfrm>
            <a:off x="4038480" y="5721480"/>
            <a:ext cx="41148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610480" y="5721480"/>
            <a:ext cx="274320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B1A7-911F-4234-89AC-070D32EA18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2"/>
          <p:cNvSpPr/>
          <p:nvPr/>
        </p:nvSpPr>
        <p:spPr>
          <a:xfrm>
            <a:off x="341280" y="1663560"/>
            <a:ext cx="8448840" cy="2198880"/>
          </a:xfrm>
          <a:prstGeom prst="rect">
            <a:avLst/>
          </a:prstGeom>
          <a:solidFill>
            <a:srgbClr val="7ac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1280" y="25718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宋体"/>
              </a:rPr>
              <a:t>学练优</a:t>
            </a:r>
            <a:r>
              <a:rPr b="1" lang="en-US" sz="3600" spc="-1" strike="noStrike">
                <a:solidFill>
                  <a:srgbClr val="404040"/>
                </a:solidFill>
                <a:latin typeface="宋体"/>
              </a:rPr>
              <a:t>RJ·</a:t>
            </a:r>
            <a:r>
              <a:rPr b="1" lang="zh-CN" sz="3600" spc="-1" strike="noStrike">
                <a:solidFill>
                  <a:srgbClr val="404040"/>
                </a:solidFill>
                <a:latin typeface="宋体"/>
              </a:rPr>
              <a:t>八英河北专用上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26880" y="356544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Kozuka Gothic Pro B"/>
                <a:ea typeface="Kozuka Gothic Pro B"/>
              </a:rPr>
              <a:t>www.youyi100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11"/>
          <p:cNvGrpSpPr/>
          <p:nvPr/>
        </p:nvGrpSpPr>
        <p:grpSpPr>
          <a:xfrm>
            <a:off x="662040" y="922320"/>
            <a:ext cx="3079440" cy="1793520"/>
            <a:chOff x="662040" y="922320"/>
            <a:chExt cx="3079440" cy="1793520"/>
          </a:xfrm>
        </p:grpSpPr>
        <p:pic>
          <p:nvPicPr>
            <p:cNvPr id="162" name="Picture 6" descr=""/>
            <p:cNvPicPr/>
            <p:nvPr/>
          </p:nvPicPr>
          <p:blipFill>
            <a:blip r:embed="rId1"/>
            <a:stretch/>
          </p:blipFill>
          <p:spPr>
            <a:xfrm>
              <a:off x="662040" y="1407960"/>
              <a:ext cx="911160" cy="59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对角圆角矩形 3"/>
            <p:cNvSpPr/>
            <p:nvPr/>
          </p:nvSpPr>
          <p:spPr>
            <a:xfrm>
              <a:off x="1074960" y="922320"/>
              <a:ext cx="601200" cy="379080"/>
            </a:xfrm>
            <a:custGeom>
              <a:avLst/>
              <a:gdLst>
                <a:gd name="textAreaLeft" fmla="*/ 20160 w 601200"/>
                <a:gd name="textAreaRight" fmla="*/ 581040 w 601200"/>
                <a:gd name="textAreaTop" fmla="*/ 18360 h 379080"/>
                <a:gd name="textAreaBottom" fmla="*/ 360720 h 379080"/>
              </a:gdLst>
              <a:ahLst/>
              <a:rect l="textAreaLeft" t="textAreaTop" r="textAreaRight" b="textAreaBottom"/>
              <a:pathLst>
                <a:path w="1151" h="804">
                  <a:moveTo>
                    <a:pt x="134" y="0"/>
                  </a:moveTo>
                  <a:lnTo>
                    <a:pt x="1151" y="0"/>
                  </a:lnTo>
                  <a:lnTo>
                    <a:pt x="1151" y="670"/>
                  </a:lnTo>
                  <a:lnTo>
                    <a:pt x="1151" y="670"/>
                  </a:lnTo>
                  <a:arcTo wR="134" hR="134" stAng="0" swAng="5400000"/>
                  <a:lnTo>
                    <a:pt x="0" y="804"/>
                  </a:lnTo>
                  <a:lnTo>
                    <a:pt x="0" y="134"/>
                  </a:lnTo>
                  <a:lnTo>
                    <a:pt x="0" y="134"/>
                  </a:lnTo>
                  <a:arcTo wR="134" hR="134" stAng="10800000" swAng="5400000"/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对角圆角矩形 4"/>
            <p:cNvSpPr/>
            <p:nvPr/>
          </p:nvSpPr>
          <p:spPr>
            <a:xfrm>
              <a:off x="2239920" y="2339640"/>
              <a:ext cx="370080" cy="233280"/>
            </a:xfrm>
            <a:custGeom>
              <a:avLst/>
              <a:gdLst>
                <a:gd name="textAreaLeft" fmla="*/ 12240 w 370080"/>
                <a:gd name="textAreaRight" fmla="*/ 357840 w 370080"/>
                <a:gd name="textAreaTop" fmla="*/ 11160 h 233280"/>
                <a:gd name="textAreaBottom" fmla="*/ 222120 h 233280"/>
              </a:gdLst>
              <a:ahLst/>
              <a:rect l="textAreaLeft" t="textAreaTop" r="textAreaRight" b="textAreaBottom"/>
              <a:pathLst>
                <a:path w="709" h="495">
                  <a:moveTo>
                    <a:pt x="83" y="0"/>
                  </a:moveTo>
                  <a:lnTo>
                    <a:pt x="709" y="0"/>
                  </a:lnTo>
                  <a:lnTo>
                    <a:pt x="709" y="412"/>
                  </a:lnTo>
                  <a:lnTo>
                    <a:pt x="709" y="412"/>
                  </a:lnTo>
                  <a:arcTo wR="83" hR="83" stAng="0" swAng="5400000"/>
                  <a:lnTo>
                    <a:pt x="0" y="495"/>
                  </a:lnTo>
                  <a:lnTo>
                    <a:pt x="0" y="83"/>
                  </a:lnTo>
                  <a:lnTo>
                    <a:pt x="0" y="83"/>
                  </a:lnTo>
                  <a:arcTo wR="83" hR="83" stAng="10800000" swAng="5400000"/>
                  <a:close/>
                </a:path>
              </a:pathLst>
            </a:cu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对角圆角矩形 6"/>
            <p:cNvSpPr/>
            <p:nvPr/>
          </p:nvSpPr>
          <p:spPr>
            <a:xfrm>
              <a:off x="1184040" y="2120760"/>
              <a:ext cx="944280" cy="595080"/>
            </a:xfrm>
            <a:custGeom>
              <a:avLst/>
              <a:gdLst>
                <a:gd name="textAreaLeft" fmla="*/ 32040 w 944280"/>
                <a:gd name="textAreaRight" fmla="*/ 912240 w 944280"/>
                <a:gd name="textAreaTop" fmla="*/ 29160 h 595080"/>
                <a:gd name="textAreaBottom" fmla="*/ 565920 h 595080"/>
              </a:gdLst>
              <a:ahLst/>
              <a:rect l="textAreaLeft" t="textAreaTop" r="textAreaRight" b="textAreaBottom"/>
              <a:pathLst>
                <a:path w="1808" h="1262">
                  <a:moveTo>
                    <a:pt x="210" y="0"/>
                  </a:moveTo>
                  <a:lnTo>
                    <a:pt x="1808" y="0"/>
                  </a:lnTo>
                  <a:lnTo>
                    <a:pt x="1808" y="1052"/>
                  </a:lnTo>
                  <a:lnTo>
                    <a:pt x="1808" y="1052"/>
                  </a:lnTo>
                  <a:arcTo wR="210" hR="210" stAng="0" swAng="5400000"/>
                  <a:lnTo>
                    <a:pt x="0" y="1262"/>
                  </a:lnTo>
                  <a:lnTo>
                    <a:pt x="0" y="210"/>
                  </a:lnTo>
                  <a:lnTo>
                    <a:pt x="0" y="210"/>
                  </a:lnTo>
                  <a:arcTo wR="210" hR="210" stAng="10800000" swAng="5400000"/>
                  <a:close/>
                </a:path>
              </a:pathLst>
            </a:custGeom>
            <a:solidFill>
              <a:srgbClr val="fffff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6" name="Picture 2" descr=""/>
            <p:cNvPicPr/>
            <p:nvPr/>
          </p:nvPicPr>
          <p:blipFill>
            <a:blip r:embed="rId2"/>
            <a:stretch/>
          </p:blipFill>
          <p:spPr>
            <a:xfrm>
              <a:off x="1968120" y="1078920"/>
              <a:ext cx="1773360" cy="114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图片 10" descr="优翼"/>
          <p:cNvPicPr/>
          <p:nvPr/>
        </p:nvPicPr>
        <p:blipFill>
          <a:blip r:embed="rId3"/>
          <a:stretch/>
        </p:blipFill>
        <p:spPr>
          <a:xfrm>
            <a:off x="1096920" y="1020600"/>
            <a:ext cx="55404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1488960" y="4470480"/>
            <a:ext cx="3905280" cy="4190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" descr=""/>
          <p:cNvPicPr/>
          <p:nvPr/>
        </p:nvPicPr>
        <p:blipFill>
          <a:blip r:embed="rId2"/>
          <a:stretch/>
        </p:blipFill>
        <p:spPr>
          <a:xfrm>
            <a:off x="42840" y="374760"/>
            <a:ext cx="7381800" cy="405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3"/>
          <a:stretch/>
        </p:blipFill>
        <p:spPr>
          <a:xfrm>
            <a:off x="1500120" y="4452840"/>
            <a:ext cx="3929040" cy="428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4"/>
          <a:stretch/>
        </p:blipFill>
        <p:spPr>
          <a:xfrm>
            <a:off x="281160" y="42876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803240" y="3848040"/>
            <a:ext cx="6408720" cy="4096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2" descr=""/>
          <p:cNvPicPr/>
          <p:nvPr/>
        </p:nvPicPr>
        <p:blipFill>
          <a:blip r:embed="rId2"/>
          <a:stretch/>
        </p:blipFill>
        <p:spPr>
          <a:xfrm>
            <a:off x="142920" y="1044720"/>
            <a:ext cx="8858160" cy="264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1714680" y="3786120"/>
            <a:ext cx="6572160" cy="428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504720" y="1095480"/>
            <a:ext cx="428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816200" y="4551480"/>
            <a:ext cx="4819680" cy="4093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" descr=""/>
          <p:cNvPicPr/>
          <p:nvPr/>
        </p:nvPicPr>
        <p:blipFill>
          <a:blip r:embed="rId2"/>
          <a:stretch/>
        </p:blipFill>
        <p:spPr>
          <a:xfrm>
            <a:off x="142920" y="352440"/>
            <a:ext cx="8877240" cy="4170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1843200" y="4538520"/>
            <a:ext cx="4786200" cy="428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4"/>
          <a:stretch/>
        </p:blipFill>
        <p:spPr>
          <a:xfrm>
            <a:off x="523800" y="41436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42920" y="700200"/>
            <a:ext cx="7275600" cy="561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108000" y="1531800"/>
            <a:ext cx="5248080" cy="2743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5443560" y="1343160"/>
            <a:ext cx="3552840" cy="3085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719280" y="3100320"/>
            <a:ext cx="1082520" cy="428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5"/>
          <a:stretch/>
        </p:blipFill>
        <p:spPr>
          <a:xfrm>
            <a:off x="3486240" y="3095640"/>
            <a:ext cx="187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63360" y="1387440"/>
            <a:ext cx="5229360" cy="124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601560" y="2730600"/>
            <a:ext cx="8428320" cy="130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405080" y="2871720"/>
            <a:ext cx="3452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8989920" cy="4076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2728800" y="1357200"/>
            <a:ext cx="1771920" cy="428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6081840" y="1357200"/>
            <a:ext cx="1900080" cy="428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4"/>
          <a:stretch/>
        </p:blipFill>
        <p:spPr>
          <a:xfrm>
            <a:off x="3605040" y="3519360"/>
            <a:ext cx="32720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19160" y="1523880"/>
            <a:ext cx="8904240" cy="2095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581200" y="2286000"/>
            <a:ext cx="1400400" cy="519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642960" y="3095640"/>
            <a:ext cx="1714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52280" y="466560"/>
            <a:ext cx="8837640" cy="421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23960" y="2643120"/>
            <a:ext cx="4886280" cy="500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657360" y="4095720"/>
            <a:ext cx="6191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781200" y="1195560"/>
            <a:ext cx="7580160" cy="2752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1247760" y="1928880"/>
            <a:ext cx="6643800" cy="500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tretch/>
        </p:blipFill>
        <p:spPr>
          <a:xfrm>
            <a:off x="1305000" y="3429000"/>
            <a:ext cx="57578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119160" y="1190520"/>
            <a:ext cx="8904240" cy="2762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766800" y="2643120"/>
            <a:ext cx="8215200" cy="500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3"/>
          <a:stretch/>
        </p:blipFill>
        <p:spPr>
          <a:xfrm>
            <a:off x="695160" y="3429000"/>
            <a:ext cx="9288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42840" y="1762200"/>
            <a:ext cx="9001080" cy="57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866880" y="2644920"/>
            <a:ext cx="7408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1"/>
          <p:cNvSpPr/>
          <p:nvPr/>
        </p:nvSpPr>
        <p:spPr>
          <a:xfrm>
            <a:off x="341280" y="1469880"/>
            <a:ext cx="8448840" cy="2044800"/>
          </a:xfrm>
          <a:prstGeom prst="rect">
            <a:avLst/>
          </a:prstGeom>
          <a:solidFill>
            <a:srgbClr val="7ac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图片 5" descr="C:\Users\Administrator\Desktop\桌面文件\截图\优翼e家二维码.jpg优翼e家二维码"/>
          <p:cNvPicPr/>
          <p:nvPr/>
        </p:nvPicPr>
        <p:blipFill>
          <a:blip r:embed="rId1"/>
          <a:stretch/>
        </p:blipFill>
        <p:spPr>
          <a:xfrm>
            <a:off x="6032520" y="3622680"/>
            <a:ext cx="1308240" cy="1177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7f7f7f">
                <a:alpha val="40000"/>
              </a:srgbClr>
            </a:outerShdw>
          </a:effectLst>
        </p:spPr>
      </p:pic>
      <p:pic>
        <p:nvPicPr>
          <p:cNvPr id="231" name="图片 6" descr="C:\Users\Administrator\Desktop\桌面文件\截图\QQ图片20170425172222.jpgQQ图片20170425172222"/>
          <p:cNvPicPr/>
          <p:nvPr/>
        </p:nvPicPr>
        <p:blipFill>
          <a:blip r:embed="rId2"/>
          <a:stretch/>
        </p:blipFill>
        <p:spPr>
          <a:xfrm>
            <a:off x="7483320" y="3622680"/>
            <a:ext cx="1306800" cy="1177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7f7f7f">
                <a:alpha val="40000"/>
              </a:srgbClr>
            </a:outerShdw>
          </a:effectLst>
        </p:spPr>
      </p:pic>
      <p:grpSp>
        <p:nvGrpSpPr>
          <p:cNvPr id="232" name="组合 19"/>
          <p:cNvGrpSpPr/>
          <p:nvPr/>
        </p:nvGrpSpPr>
        <p:grpSpPr>
          <a:xfrm>
            <a:off x="874800" y="1106640"/>
            <a:ext cx="1868400" cy="1552320"/>
            <a:chOff x="874800" y="1106640"/>
            <a:chExt cx="1868400" cy="1552320"/>
          </a:xfrm>
        </p:grpSpPr>
        <p:pic>
          <p:nvPicPr>
            <p:cNvPr id="233" name="Picture 6" descr=""/>
            <p:cNvPicPr/>
            <p:nvPr/>
          </p:nvPicPr>
          <p:blipFill>
            <a:blip r:embed="rId3"/>
            <a:stretch/>
          </p:blipFill>
          <p:spPr>
            <a:xfrm>
              <a:off x="874800" y="1106640"/>
              <a:ext cx="1080000" cy="74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对角圆角矩形 16"/>
            <p:cNvSpPr/>
            <p:nvPr/>
          </p:nvSpPr>
          <p:spPr>
            <a:xfrm>
              <a:off x="2046960" y="1683000"/>
              <a:ext cx="696240" cy="438840"/>
            </a:xfrm>
            <a:custGeom>
              <a:avLst/>
              <a:gdLst>
                <a:gd name="textAreaLeft" fmla="*/ 23760 w 696240"/>
                <a:gd name="textAreaRight" fmla="*/ 672480 w 696240"/>
                <a:gd name="textAreaTop" fmla="*/ 21240 h 438840"/>
                <a:gd name="textAreaBottom" fmla="*/ 417600 h 438840"/>
              </a:gdLst>
              <a:ahLst/>
              <a:rect l="textAreaLeft" t="textAreaTop" r="textAreaRight" b="textAreaBottom"/>
              <a:pathLst>
                <a:path w="1202" h="839">
                  <a:moveTo>
                    <a:pt x="140" y="0"/>
                  </a:moveTo>
                  <a:lnTo>
                    <a:pt x="1202" y="0"/>
                  </a:lnTo>
                  <a:lnTo>
                    <a:pt x="1202" y="699"/>
                  </a:lnTo>
                  <a:lnTo>
                    <a:pt x="1202" y="699"/>
                  </a:lnTo>
                  <a:arcTo wR="140" hR="140" stAng="0" swAng="5400000"/>
                  <a:lnTo>
                    <a:pt x="0" y="839"/>
                  </a:lnTo>
                  <a:lnTo>
                    <a:pt x="0" y="140"/>
                  </a:lnTo>
                  <a:lnTo>
                    <a:pt x="0" y="140"/>
                  </a:lnTo>
                  <a:arcTo wR="140" hR="140" stAng="10800000" swAng="5400000"/>
                  <a:close/>
                </a:path>
              </a:pathLst>
            </a:cu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对角圆角矩形 18"/>
            <p:cNvSpPr/>
            <p:nvPr/>
          </p:nvSpPr>
          <p:spPr>
            <a:xfrm>
              <a:off x="883800" y="1998360"/>
              <a:ext cx="1048680" cy="660600"/>
            </a:xfrm>
            <a:custGeom>
              <a:avLst/>
              <a:gdLst>
                <a:gd name="textAreaLeft" fmla="*/ 35640 w 1048680"/>
                <a:gd name="textAreaRight" fmla="*/ 1013040 w 1048680"/>
                <a:gd name="textAreaTop" fmla="*/ 32400 h 660600"/>
                <a:gd name="textAreaBottom" fmla="*/ 628200 h 660600"/>
              </a:gdLst>
              <a:ahLst/>
              <a:rect l="textAreaLeft" t="textAreaTop" r="textAreaRight" b="textAreaBottom"/>
              <a:pathLst>
                <a:path w="1810" h="1263">
                  <a:moveTo>
                    <a:pt x="211" y="0"/>
                  </a:moveTo>
                  <a:lnTo>
                    <a:pt x="1810" y="0"/>
                  </a:lnTo>
                  <a:lnTo>
                    <a:pt x="1810" y="1052"/>
                  </a:lnTo>
                  <a:lnTo>
                    <a:pt x="1810" y="1052"/>
                  </a:lnTo>
                  <a:arcTo wR="211" hR="211" stAng="0" swAng="5400000"/>
                  <a:lnTo>
                    <a:pt x="0" y="1263"/>
                  </a:lnTo>
                  <a:lnTo>
                    <a:pt x="0" y="211"/>
                  </a:lnTo>
                  <a:lnTo>
                    <a:pt x="0" y="211"/>
                  </a:lnTo>
                  <a:arcTo wR="211" hR="211" stAng="10800000" swAng="5400000"/>
                  <a:close/>
                </a:path>
              </a:pathLst>
            </a:custGeom>
            <a:solidFill>
              <a:srgbClr val="fffff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TextBox 3"/>
          <p:cNvSpPr/>
          <p:nvPr/>
        </p:nvSpPr>
        <p:spPr>
          <a:xfrm>
            <a:off x="4094280" y="1900080"/>
            <a:ext cx="294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4040"/>
                </a:solidFill>
                <a:latin typeface="Calibri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983040" y="2595600"/>
            <a:ext cx="334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Gungsuh"/>
                <a:ea typeface="Gungsuh"/>
              </a:rPr>
              <a:t>Thank you for watching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346320" y="3235320"/>
            <a:ext cx="203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Kozuka Gothic Pro B"/>
                <a:ea typeface="Kozuka Gothic Pro B"/>
              </a:rPr>
              <a:t>www.youyi100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3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28520" y="461880"/>
            <a:ext cx="8885160" cy="4219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041560" y="1293840"/>
            <a:ext cx="868320" cy="42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3606840" y="2728800"/>
            <a:ext cx="2103480" cy="428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1262160" y="4152960"/>
            <a:ext cx="6667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14480" y="1614600"/>
            <a:ext cx="8913600" cy="1914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1257480" y="1714680"/>
            <a:ext cx="814320" cy="428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5746680" y="2409840"/>
            <a:ext cx="18255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81000" y="461880"/>
            <a:ext cx="8980560" cy="4219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2000160" y="1314360"/>
            <a:ext cx="1082880" cy="428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3486240" y="2747880"/>
            <a:ext cx="19429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90360" y="895320"/>
            <a:ext cx="8961480" cy="3352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7889760" y="976320"/>
            <a:ext cx="1082880" cy="428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631800" y="3129120"/>
            <a:ext cx="21542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114480" y="1947960"/>
            <a:ext cx="8913600" cy="1247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3429000" y="2028960"/>
            <a:ext cx="1571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19200" y="4541760"/>
            <a:ext cx="3809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" descr=""/>
          <p:cNvPicPr/>
          <p:nvPr/>
        </p:nvPicPr>
        <p:blipFill>
          <a:blip r:embed="rId2"/>
          <a:stretch/>
        </p:blipFill>
        <p:spPr>
          <a:xfrm>
            <a:off x="47520" y="365040"/>
            <a:ext cx="7400880" cy="4046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1500120" y="4510080"/>
            <a:ext cx="3929040" cy="428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4"/>
          <a:stretch/>
        </p:blipFill>
        <p:spPr>
          <a:xfrm>
            <a:off x="333360" y="1042920"/>
            <a:ext cx="4287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71280" y="3846600"/>
            <a:ext cx="9001440" cy="4237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" descr=""/>
          <p:cNvPicPr/>
          <p:nvPr/>
        </p:nvPicPr>
        <p:blipFill>
          <a:blip r:embed="rId2"/>
          <a:stretch/>
        </p:blipFill>
        <p:spPr>
          <a:xfrm>
            <a:off x="52560" y="960480"/>
            <a:ext cx="7389720" cy="2876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38160" y="3862440"/>
            <a:ext cx="9105840" cy="357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4"/>
          <a:stretch/>
        </p:blipFill>
        <p:spPr>
          <a:xfrm>
            <a:off x="376200" y="101916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08:14:26Z</dcterms:created>
  <dc:creator/>
  <dc:description/>
  <dc:language>en-US</dc:language>
  <cp:lastModifiedBy>Sky123.Org</cp:lastModifiedBy>
  <dcterms:modified xsi:type="dcterms:W3CDTF">2018-06-07T03:17:54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</Properties>
</file>